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2E1-E9CC-4CB7-AA69-5C2B7DE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7BD-0863-4826-ADCF-F9BDA1D0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F52D-8E3A-426D-9EF4-8313BCEC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155-E443-4F3C-A538-3771AAAD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E755-224C-4FB1-90E3-08065258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7E69-8E47-4E1D-9D5B-449FB026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BBFE-6EB6-4B0C-8E1A-E8E7BE0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CD17-2922-40A4-A3D7-92E800CC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71BA-A873-4E04-BE0D-17FFC40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9701-3330-436E-A918-A5F2023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3A6-815D-4D88-A824-5FD4020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AA7-EF08-4E30-91A2-71744F9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7EC5-3FF4-453F-9266-7E486E5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1A36-F9D4-42CB-8045-81C75AD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DA1-42D4-461D-A72E-1E9E80A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943B-4204-4D75-A548-7886EB8A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BB2-81F0-48F2-938D-9AC73D8C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6F85-14BE-47B8-95F4-4251A04C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AEBF-DDE4-4F76-874B-37AB33E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4873-B147-4A56-8B38-3480C13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EAFC-6FEA-4A07-9873-F3AADC3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AB4B-F65B-4F9C-AF26-ADF4F93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D0D-5091-4982-93AF-8E2BC2F0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7063-C283-4E8C-9645-96DC395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31CE-BD8F-4562-BE25-8ABCA4F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0110-F1FA-43CB-AC4E-70583DE0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6914-BD20-4076-96E3-5285D8D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EAE0-826F-4E57-B3C6-A31A0FE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E8A3-DCD6-4BB6-A15F-7FF281F3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A416-2769-4497-A51D-6A862523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F186-BC65-49F0-B69C-04654DAE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3AEB2-B0C0-4BB2-AD27-D87EC3B1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5116-420C-44DE-9FC1-6FE1C08C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CA7-CC6D-437E-9BC3-22C86A1C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2B9E-70FF-430A-BF7D-6434089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C98F4-6BC2-4015-8DAF-CC49D326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44C2-F4D5-4485-954B-04827E5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5A7A-8FC4-4785-BF75-C02482E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64891-DED9-42B6-B953-ACBCD14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5224-1955-4226-A6D4-D19A4B4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AF4F-FFC6-4ED7-8A4F-EF37030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80BF-BAEE-4B55-AF03-9388FB67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97E17-A71C-4FCE-8777-82513FBF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16EE-452A-4615-BCC2-416B8FC5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741-5477-4935-BB18-F101E1FB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DA80C-C881-4305-8A88-61A95B59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C4D39-CBB0-4FEC-BACD-58607854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6E490-8636-4D89-A787-38DB4D9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11253-0E9A-41FE-B4BF-73275FB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63868-17F3-47A7-9963-6C7BE5C7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9EB46-43E6-4DAB-8DE2-32372C5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69809-2B37-4533-A2AA-ED19F5D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EA2E-C35F-4EC7-BA97-8C19246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9664E-34D3-4F1E-AC13-95669D06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2A351-FFF2-4635-9CB1-88527C70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311-7636-46A1-A1F2-FB906396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092B-99CF-42D5-9653-814DD8CA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7B6E7-3170-4831-999F-93004D72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DA7D6-1080-4861-9C1D-0DC93975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0BD2-06CB-41F5-B3CF-9E1D12C7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EC36-B2C1-4C4C-B9BF-558BB899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E314-F552-4717-8906-73F2363D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F665-190F-432B-BC1B-424BCBEC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545D1-B530-4B70-951B-A295223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AF63-BDBE-4375-AF2B-0DBBE53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91640-CCF8-4C5D-BB5F-6FCDB23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1FD-5B5E-46DD-B957-EF349A6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7968-C4BB-4917-B703-3AAFA668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1D61-CAAA-4A97-9F05-AE6A7C0D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B9E1-B02D-48DD-87EC-36C5B281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F5EA7-3B3F-4576-B5AC-D6FDD7B7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EC8A6-9602-4C39-9A73-CEEBAA07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03AC-C804-4A9B-B08F-70DEA42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ECBDC-3792-4C8B-BD2E-E1551260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EF905-FD09-4154-A496-BBE6734B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351D3-1445-49FB-A0F8-0BB2B7C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FE6B-A3FB-40EB-8431-52C5EDC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801-FD89-4E01-8F94-4D337B3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D6005-0091-43B7-A02B-2DFE94A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9F63-A0AF-41E2-9118-2D7795C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2D7E-19DC-4D74-A4F2-AED3EC4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D1040-E36D-4E50-ADA9-8A6726F2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9D03-B7C6-43B6-9FD1-9E535596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9DD6-1796-4E4A-B72F-1E3026FD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097E8-E5AA-42E8-9A3D-BF976652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74C77-0628-496C-AC4B-59C629F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7C61-FFB8-43EB-99A9-C1A6228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8CCC6-6130-428D-825F-BAD4B4D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D6A-1107-4909-9922-E22655BE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5CE4B-E30A-4266-B13D-CCD0589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8A83-B86E-4F2C-8D9C-806760A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C5CD3-4C6F-4289-9A41-0C4C68B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3C67B-0C85-40D8-ACA0-07E2947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C9238-D65A-4EB6-BDC7-C00ACA58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A7ED9-C8B3-4330-AA75-D61D4C2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03ADB-5B90-4B57-A30C-9D5695FC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838A-AF37-4DEC-9289-F3D4E741E203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4B55-F5D5-4E7F-8457-D4E0CF8F08DA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DFB-1C08-4644-82F0-5A31EADD63AB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8f0f4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E520-330F-42A3-8BB9-A42EAC661174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CF84-0198-47FE-A10C-298DD9817984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E21E-27A8-4FF9-944A-EF49E53E2D74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CE3-1FF9-493B-99E2-F37B04AAB816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930-1A96-45C1-BE0F-1BCFCDB7E66C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3215-C3E9-4977-9D79-0D470114E146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24B0-E0FA-4F87-A4E0-3FB492A801B1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B86B-9A68-4252-9166-368980537064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1F76-4831-418C-B614-815E34D8CDEE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8F1-CCE3-4C8C-AB87-B51014368013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6295-F540-41B6-9A28-D3FCE46EAA21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60F-0B6A-4021-9E07-A53E37DA7D84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4DB7-53BD-48EF-869A-4CE6DE5F6986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antiago.barrios@coahuila.gob.mx" TargetMode="External"/><Relationship Id="rId2" Type="http://schemas.openxmlformats.org/officeDocument/2006/relationships/hyperlink" Target="mailto:erikaguadalupe.cruz@coahuila.gob.mx" TargetMode="External"/><Relationship Id="rId3" Type="http://schemas.openxmlformats.org/officeDocument/2006/relationships/hyperlink" Target="mailto:margaritalba@hotmail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4464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3360" y="1335240"/>
            <a:ext cx="7785000" cy="1742760"/>
          </a:xfrm>
          <a:prstGeom prst="rect">
            <a:avLst/>
          </a:prstGeom>
          <a:ln w="0">
            <a:noFill/>
          </a:ln>
        </p:spPr>
      </p:pic>
      <p:sp>
        <p:nvSpPr>
          <p:cNvPr id="372" name="4 Marcador de pie de página"/>
          <p:cNvSpPr/>
          <p:nvPr/>
        </p:nvSpPr>
        <p:spPr>
          <a:xfrm>
            <a:off x="3635280" y="5732640"/>
            <a:ext cx="50529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Saltillo, Coahuila . 04 de Diciembre 20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395280" y="333360"/>
            <a:ext cx="8226360" cy="5126040"/>
          </a:xfrm>
          <a:prstGeom prst="rect">
            <a:avLst/>
          </a:prstGeom>
          <a:ln w="0">
            <a:noFill/>
          </a:ln>
        </p:spPr>
      </p:pic>
      <p:pic>
        <p:nvPicPr>
          <p:cNvPr id="374" name="1 Título" descr=""/>
          <p:cNvPicPr/>
          <p:nvPr/>
        </p:nvPicPr>
        <p:blipFill>
          <a:blip r:embed="rId2"/>
          <a:stretch/>
        </p:blipFill>
        <p:spPr>
          <a:xfrm>
            <a:off x="384120" y="828720"/>
            <a:ext cx="87408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399280"/>
          </a:xfrm>
          <a:prstGeom prst="rect">
            <a:avLst/>
          </a:prstGeom>
          <a:ln w="0">
            <a:noFill/>
          </a:ln>
        </p:spPr>
      </p:pic>
      <p:sp>
        <p:nvSpPr>
          <p:cNvPr id="376" name="2 CuadroTexto"/>
          <p:cNvSpPr/>
          <p:nvPr/>
        </p:nvSpPr>
        <p:spPr>
          <a:xfrm>
            <a:off x="611280" y="256536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venios gene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rupo de trabajo co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3 CuadroTexto"/>
          <p:cNvSpPr/>
          <p:nvPr/>
        </p:nvSpPr>
        <p:spPr>
          <a:xfrm>
            <a:off x="468360" y="333360"/>
            <a:ext cx="799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Contar con un programa de educación ambiental para concientizar y sensibilizar a estudiantes sobre la contaminación del aire y sus impactos a la salud y 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50472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79" name="2 CuadroTexto"/>
          <p:cNvSpPr/>
          <p:nvPr/>
        </p:nvSpPr>
        <p:spPr>
          <a:xfrm>
            <a:off x="611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erial didáctico, educativo y/o informativo en el tema de la calidad del aire diseñ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 de educación ambiental implem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62064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81" name="2 CuadroTexto"/>
          <p:cNvSpPr/>
          <p:nvPr/>
        </p:nvSpPr>
        <p:spPr>
          <a:xfrm>
            <a:off x="395280" y="1197000"/>
            <a:ext cx="820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ción de Grupo de Trabajo multidisciplinario de Educación del Programa para Mejorar la Calidad del Aire del Estado de Coahuila de Zarago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1 CuadroTexto"/>
          <p:cNvSpPr/>
          <p:nvPr/>
        </p:nvSpPr>
        <p:spPr>
          <a:xfrm>
            <a:off x="250920" y="1413000"/>
            <a:ext cx="7634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santiago.barrios@coahuila.gob.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erikaguadalupe.cruz@coahuila.gob.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margaritalba@hot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19-12-04T18:41:37Z</dcterms:modified>
  <cp:revision>4</cp:revision>
  <dc:subject/>
  <dc:title>5. Comunicación y Educación Ambiental.</dc:title>
</cp:coreProperties>
</file>